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6.png" ContentType="image/png"/>
  <Override PartName="/ppt/media/image14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9.wmf" ContentType="image/x-wmf"/>
  <Override PartName="/ppt/media/image34.png" ContentType="image/png"/>
  <Override PartName="/ppt/media/image17.wmf" ContentType="image/x-wmf"/>
  <Override PartName="/ppt/media/image29.png" ContentType="image/png"/>
  <Override PartName="/ppt/media/image32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668-AA0C-47AA-93B9-37FB4F0B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0B3-2E3A-4797-A0A3-CF72CE8B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B110-056C-4162-A3BB-2B4860B9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DB53-9BE6-4B9E-B90F-4A29C627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0234-CA27-4E9F-AAC1-DB16DFE4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0E36D-BD8C-49BB-AC36-4AE6679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E5AAD-9CD0-43EB-B9E4-C5862A2B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61004-1CE2-4C3B-BC52-4D05C76B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450C-F12A-497C-A27A-F2FE1E1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975B-4B60-4CDD-9392-C6E130C6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EEB4-9D01-4A70-83BD-09B70A9A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6CE3-33C8-4B64-B8BA-214A686D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088-2947-4FB6-AB4A-AF143C4B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4637-D7F6-4380-BBD6-219D45B3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5C49-21F5-4EEE-A704-FAD85A07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5F84-A9A5-41BC-83E3-FFB4BC13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CEB7-32E4-4308-ADCE-DBD184CD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5BD52-6273-416F-893B-9472ADF8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6615E-37D3-4C3D-8E3D-6453D9F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DA7BB-38C2-426B-AA49-E616BE54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1173-3622-4301-B417-173ACE79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6FDC-FF82-422B-9E77-10C45680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CF46-D1DA-4B71-94F0-075CC74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A78-4921-4AA9-B59E-690EC292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3CD3-4864-4742-9ADB-584A7782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DD42-F894-4F49-85EA-3A3E8669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3FA0-1A4E-43CD-8D5D-89CD9299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DA49E-129E-4E6B-A3CE-EADF0AE8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636F-1F7C-4A49-9B11-BE1DB868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EBF36-4C13-4526-9743-28811F27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9555C-4706-40A1-B02A-16748ED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A56F-1138-4DA5-9727-8EF38195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5D688-175F-484C-BBD0-3597E5F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7918C-194F-47D0-B79E-713F89A9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244D-51B6-467F-B79E-74161338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212D-4988-4831-84DD-BDD6B87E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9A15F-F1C5-4E32-BDF1-B9ECA032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A2641-EA4E-4BDD-B566-62DA1AC6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CE80A-AD4A-429B-B412-3A72B2D8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8F4BA-8ADF-4989-BEEC-4A9F7BCB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051BD-1E7D-4974-879C-68EB704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0A161-FF05-4901-A5C3-DEC6222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0C722-3358-4CAE-81FB-5DD5A060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7C37E-85DD-4344-A536-554487AA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D15B1-E785-46ED-A888-97CD6DE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4BB7-E68B-4B0E-9592-948EDDC7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ABC93-04DD-4946-8C3C-DB7085F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2A08-B775-44F0-BF0A-2B9D47F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58F1-80FA-482D-966F-03785DA2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250C1-6CE7-4D8B-897B-D5554EED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9A9FF-E86E-4CE9-ABF8-8F4063D7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B24F-2A32-4B73-BDFD-7951FB1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CC11-5D86-4AE2-A378-D857A137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9DB3-1369-464D-88C4-F893F4FC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384E-BC2D-4FB0-BD75-A4D1F65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BB89-ABB6-4786-A87E-38C6ACD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6B8-ACDB-4124-ACC9-A1D959C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D4BA-ACE2-4BA0-A1F2-0A61EF2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3EA9-0905-403A-8D79-11CF35A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69FE-157E-47E9-8D0A-D80A324E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4567-C550-409F-B225-DC073EA2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ABE9-CF1A-453C-98D8-8E3B8806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E2D-6463-4DEC-9E2F-A46503FE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42B-8C2B-4E97-A16B-DB1565D7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2F6-3ADA-47FF-A422-631C41F8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D61-47ED-4BD3-8C38-AE4989BC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E2E-4261-4F90-849D-5893BDCA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A237-5B40-439E-AD1A-57FC5C1E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3C0D-8795-435A-B7C3-DEB7780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7E42-CD5F-4B66-9BDE-435803FB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DD4A4-51FF-4A06-A4CD-387A52CC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5FA4-DE9C-4787-BB1D-389EAB4E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B543-79F8-4973-90C2-91DB3F44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1E1E-0863-4DAA-AB86-755F21E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3EE-1836-423B-802C-0DE9016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025F-6D07-4413-86A0-B4B98EA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D4EB-E7BC-44FB-BAE1-8AF77A44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D66E-DAC0-47E6-9A16-8967D554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B614-BB26-4E98-A5A2-3E1DA397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AA0B-41D1-4DBC-8EAC-021FA2C4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1B3E-1EC5-4181-A15A-E1AD9AF4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D163-FA19-4B4E-ABCE-07E370E5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A920-CE53-4390-9D8E-FA6B8B37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B1B3-296A-4205-B5CA-B7B85B8D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1964-4211-44C6-967C-E8B21D10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90D-0267-4FF8-9138-AC8F7D4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BA03-F1F3-4F16-8AD0-71B26039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779C-91FC-43CA-AC66-5036A9C7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A3972-AC7B-48F2-BF8E-7CDC4FF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9AE6-1955-4120-B259-23BF21F9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F8CB-9611-4140-BDC2-A51BA8A7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24D3-D7F7-4D28-85A9-3517AE22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111F-D6FA-4EC8-84DD-9FA2FDA7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CD285-B0B0-40B7-A874-57ABD447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4509-B921-4140-A93F-5FDB0D5B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17043-C753-4322-A3D1-54D9246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3.jpe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F76E-DF78-4579-9C02-FA57910F34E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B01F1116-89F4-4D26-9158-9AEFD9115726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5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0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06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A8400797-1732-49EA-8552-56AE5FD4EC3A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1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513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Freeform 15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Freeform 1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3CBB-7E29-4D2F-83DA-D5A1E55E7CC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0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62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1AF56330-C3F7-420E-A784-14C29D42231C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7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Freeform 15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Freeform 16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8359-0F0D-4335-AACF-D4767F27659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61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8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9E7608E7-295E-48E0-A594-8CF80BFE11DE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3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625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Freeform 15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Freeform 16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D131-0391-4493-B63A-D4752E096FE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D7BEB5EA-6D85-4772-A65C-2F419C062414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Freeform 15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" name="Freeform 16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65" name="Freeform 16" descr=""/>
            <p:cNvPicPr/>
            <p:nvPr/>
          </p:nvPicPr>
          <p:blipFill>
            <a:blip r:embed="rId6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7" name="Freeform 17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Freeform 19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EEAA-FF98-4393-8464-511B146FC5C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12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4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8B276403-AA5A-4F27-A3FA-4500C13CA5A1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15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16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12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UA-horiz blk"/>
          <p:cNvPicPr/>
          <p:nvPr/>
        </p:nvPicPr>
        <p:blipFill>
          <a:blip r:embed="rId7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Revised May 2011 - Insurance Unit – Types of Insurance– Slide </a:t>
            </a:r>
            <a:fld id="{65DB01B5-4D74-48C5-BA43-F838F7DAA8C6}" type="slidenum"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68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0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F321271E-D03C-4BCC-9108-F29C0584548D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0" name="Freeform 17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81" name="Freeform 17" descr=""/>
            <p:cNvPicPr/>
            <p:nvPr/>
          </p:nvPicPr>
          <p:blipFill>
            <a:blip r:embed="rId6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Freeform 19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2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6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B2415FC0-402F-4D14-8317-77F8AA0A61B3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1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Freeform 15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Freeform 1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Picture 12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UA-horiz blk"/>
          <p:cNvPicPr/>
          <p:nvPr/>
        </p:nvPicPr>
        <p:blipFill>
          <a:blip r:embed="rId7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8"/>
          <p:cNvSpPr/>
          <p:nvPr/>
        </p:nvSpPr>
        <p:spPr>
          <a:xfrm>
            <a:off x="1219320" y="6324480"/>
            <a:ext cx="685800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10– Insurance Unit – Types of Insurance– Slide </a:t>
            </a:r>
            <a:fld id="{4810967F-2D23-45DC-82B3-A1E19E03203A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0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2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FA28B0FB-F226-4B4F-AA38-FF9FF45429D2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Freeform 15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Freeform 1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Freeform 17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Freeform 18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Text Box 28"/>
          <p:cNvSpPr/>
          <p:nvPr/>
        </p:nvSpPr>
        <p:spPr>
          <a:xfrm>
            <a:off x="1219320" y="6324480"/>
            <a:ext cx="6858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October 2010 – The Essentials to Take Charge of Your  Finances – Types of Insurance Essentials – Slide </a:t>
            </a:r>
            <a:fld id="{B9AA1A10-9AB7-42D0-BDAA-4C8E512A27A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12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UA-horiz blk"/>
          <p:cNvPicPr/>
          <p:nvPr/>
        </p:nvPicPr>
        <p:blipFill>
          <a:blip r:embed="rId7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38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F4A0C1B9-CB30-4244-A40D-CA1B9308AF70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3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2167-8B7D-4083-B39E-C94A6643578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92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4FC94D81-A741-44DE-B83D-DBF6797429E5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9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Freeform 15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Freeform 16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Freeform 18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77BA-C107-4BA5-9002-7EF6CE03CA9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48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50" name="Freeform 10"/>
          <p:cNvSpPr/>
          <p:nvPr/>
        </p:nvSpPr>
        <p:spPr>
          <a:xfrm>
            <a:off x="-1440" y="5456160"/>
            <a:ext cx="7238880" cy="140040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Freeform 11"/>
          <p:cNvSpPr/>
          <p:nvPr/>
        </p:nvSpPr>
        <p:spPr>
          <a:xfrm>
            <a:off x="1805040" y="6145200"/>
            <a:ext cx="7338960" cy="7128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Freeform 12"/>
          <p:cNvSpPr/>
          <p:nvPr/>
        </p:nvSpPr>
        <p:spPr>
          <a:xfrm>
            <a:off x="-3240" y="5410080"/>
            <a:ext cx="7605720" cy="92880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Freeform 13"/>
          <p:cNvSpPr/>
          <p:nvPr/>
        </p:nvSpPr>
        <p:spPr>
          <a:xfrm>
            <a:off x="1677960" y="6114960"/>
            <a:ext cx="7466040" cy="74160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1219320" y="63244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Family Economics &amp; Financial Education – Revised May 2011– Insurance Unit – Types of Insurance– Slide </a:t>
            </a:r>
            <a:fld id="{FC3923EB-088A-4F75-A2F5-F5DA0AC6AB0E}" type="slidenum">
              <a:rPr b="0" lang="en-US" sz="7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5" name="Picture 12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848720" y="640080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6" descr="UA-horiz blk"/>
          <p:cNvPicPr/>
          <p:nvPr/>
        </p:nvPicPr>
        <p:blipFill>
          <a:blip r:embed="rId5"/>
          <a:stretch/>
        </p:blipFill>
        <p:spPr>
          <a:xfrm>
            <a:off x="457200" y="6400800"/>
            <a:ext cx="874800" cy="192240"/>
          </a:xfrm>
          <a:prstGeom prst="rect">
            <a:avLst/>
          </a:prstGeom>
          <a:ln w="0">
            <a:noFill/>
          </a:ln>
        </p:spPr>
      </p:pic>
      <p:sp>
        <p:nvSpPr>
          <p:cNvPr id="457" name="TextBox 6"/>
          <p:cNvSpPr/>
          <p:nvPr/>
        </p:nvSpPr>
        <p:spPr>
          <a:xfrm>
            <a:off x="7602480" y="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.10.1.G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Freeform 1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Freeform 1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Freeform 1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Freeform 1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EE14-2F03-4851-BBE0-7C0E5455194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YPES OF INSURANC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4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d4d4d4"/>
                </a:solidFill>
                <a:latin typeface="Calibri"/>
              </a:rPr>
              <a:t>Take Charge of Your Finances” Advance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152280" y="5900760"/>
            <a:ext cx="1447920" cy="8650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"/>
          <p:cNvPicPr/>
          <p:nvPr/>
        </p:nvPicPr>
        <p:blipFill>
          <a:blip r:embed="rId2"/>
          <a:stretch/>
        </p:blipFill>
        <p:spPr>
          <a:xfrm>
            <a:off x="7122960" y="6248520"/>
            <a:ext cx="2009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URCES OF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9" name="Content Placeholder 3" descr=""/>
          <p:cNvPicPr/>
          <p:nvPr/>
        </p:nvPicPr>
        <p:blipFill>
          <a:blip r:embed="rId1"/>
          <a:stretch/>
        </p:blipFill>
        <p:spPr>
          <a:xfrm>
            <a:off x="596880" y="1792440"/>
            <a:ext cx="8102520" cy="3882960"/>
          </a:xfrm>
          <a:prstGeom prst="rect">
            <a:avLst/>
          </a:prstGeom>
          <a:ln w="0">
            <a:noFill/>
          </a:ln>
        </p:spPr>
      </p:pic>
      <p:sp>
        <p:nvSpPr>
          <p:cNvPr id="760" name="TextBox 4"/>
          <p:cNvSpPr/>
          <p:nvPr/>
        </p:nvSpPr>
        <p:spPr>
          <a:xfrm>
            <a:off x="587520" y="1295280"/>
            <a:ext cx="8076960" cy="398880"/>
          </a:xfrm>
          <a:prstGeom prst="rect">
            <a:avLst/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most cases, individuals acquire insurance from a combination of 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TextBox 5"/>
          <p:cNvSpPr/>
          <p:nvPr/>
        </p:nvSpPr>
        <p:spPr>
          <a:xfrm>
            <a:off x="609480" y="5726160"/>
            <a:ext cx="8077320" cy="398880"/>
          </a:xfrm>
          <a:prstGeom prst="rect">
            <a:avLst/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f an employer does not provide insurance, it may be acquired individual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3365640" y="3335400"/>
            <a:ext cx="213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, disability, and occasionally life insu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6361200" y="2895480"/>
            <a:ext cx="209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programs for those who qualify and during catastroph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159200" y="441324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3921120" y="2590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6662880" y="4381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MPLOYER PROVIDED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8" name="Content Placeholder 3" descr=""/>
          <p:cNvPicPr/>
          <p:nvPr/>
        </p:nvPicPr>
        <p:blipFill>
          <a:blip r:embed="rId1"/>
          <a:stretch/>
        </p:blipFill>
        <p:spPr>
          <a:xfrm>
            <a:off x="274680" y="1517760"/>
            <a:ext cx="8624880" cy="3822480"/>
          </a:xfrm>
          <a:prstGeom prst="rect">
            <a:avLst/>
          </a:prstGeom>
          <a:ln w="0">
            <a:noFill/>
          </a:ln>
        </p:spPr>
      </p:pic>
      <p:sp>
        <p:nvSpPr>
          <p:cNvPr id="769" name="TextBox 5"/>
          <p:cNvSpPr/>
          <p:nvPr/>
        </p:nvSpPr>
        <p:spPr>
          <a:xfrm>
            <a:off x="304920" y="4800600"/>
            <a:ext cx="853416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may be available to the employees family members (usually for additional fe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income taxes are paid on the in-kind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Rounded Rectangle 6"/>
          <p:cNvSpPr/>
          <p:nvPr/>
        </p:nvSpPr>
        <p:spPr>
          <a:xfrm>
            <a:off x="304920" y="1150920"/>
            <a:ext cx="8534160" cy="782640"/>
          </a:xfrm>
          <a:prstGeom prst="roundRect">
            <a:avLst>
              <a:gd name="adj" fmla="val 16667"/>
            </a:avLst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457200" y="1150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mployee benef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products or services that add extra value for employees beyond wa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3966480" y="256392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966480" y="3860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6553080" y="213372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-k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o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anything given to employee rather than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Rectangle 11"/>
          <p:cNvSpPr/>
          <p:nvPr/>
        </p:nvSpPr>
        <p:spPr>
          <a:xfrm>
            <a:off x="6622200" y="38466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roll dedu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OVERNMENT PROGRA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85800" y="1536840"/>
            <a:ext cx="78487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 basic insurance as a part of the social safety net to protect citizens from economic hard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Security, Medicare, Medicai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programs require a work history and employer provided participation to be eligi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Unemployment insurance, worker’s compen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address specific catastroph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urricane Katrin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Content Placeholder 3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547120" cy="3743280"/>
          </a:xfrm>
          <a:prstGeom prst="rect">
            <a:avLst/>
          </a:prstGeom>
          <a:ln w="0">
            <a:noFill/>
          </a:ln>
        </p:spPr>
      </p:pic>
      <p:grpSp>
        <p:nvGrpSpPr>
          <p:cNvPr id="779" name="Group 31"/>
          <p:cNvGrpSpPr/>
          <p:nvPr/>
        </p:nvGrpSpPr>
        <p:grpSpPr>
          <a:xfrm>
            <a:off x="7577280" y="2139840"/>
            <a:ext cx="1352520" cy="685800"/>
            <a:chOff x="7577280" y="2139840"/>
            <a:chExt cx="1352520" cy="685800"/>
          </a:xfrm>
        </p:grpSpPr>
        <p:sp>
          <p:nvSpPr>
            <p:cNvPr id="780" name="Rounded Rectangle 32"/>
            <p:cNvSpPr/>
            <p:nvPr/>
          </p:nvSpPr>
          <p:spPr>
            <a:xfrm>
              <a:off x="7577280" y="2139840"/>
              <a:ext cx="1352520" cy="685800"/>
            </a:xfrm>
            <a:prstGeom prst="roundRect">
              <a:avLst>
                <a:gd name="adj" fmla="val 16667"/>
              </a:avLst>
            </a:prstGeom>
            <a:solidFill>
              <a:srgbClr val="86ce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1" name="Rounded Rectangle 4"/>
            <p:cNvSpPr/>
            <p:nvPr/>
          </p:nvSpPr>
          <p:spPr>
            <a:xfrm>
              <a:off x="7610400" y="2172960"/>
              <a:ext cx="12859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82" name="Rectangle 29"/>
          <p:cNvSpPr/>
          <p:nvPr/>
        </p:nvSpPr>
        <p:spPr>
          <a:xfrm>
            <a:off x="380880" y="4114800"/>
            <a:ext cx="853452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ALTH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84" name="Group 10"/>
          <p:cNvGrpSpPr/>
          <p:nvPr/>
        </p:nvGrpSpPr>
        <p:grpSpPr>
          <a:xfrm>
            <a:off x="5283360" y="1703520"/>
            <a:ext cx="2336760" cy="1674720"/>
            <a:chOff x="5283360" y="1703520"/>
            <a:chExt cx="2336760" cy="1674720"/>
          </a:xfrm>
        </p:grpSpPr>
        <p:grpSp>
          <p:nvGrpSpPr>
            <p:cNvPr id="785" name="Group 4"/>
            <p:cNvGrpSpPr/>
            <p:nvPr/>
          </p:nvGrpSpPr>
          <p:grpSpPr>
            <a:xfrm>
              <a:off x="5283360" y="1703520"/>
              <a:ext cx="659880" cy="1674720"/>
              <a:chOff x="5283360" y="1703520"/>
              <a:chExt cx="659880" cy="1674720"/>
            </a:xfrm>
          </p:grpSpPr>
          <p:sp>
            <p:nvSpPr>
              <p:cNvPr id="786" name="Rounded Rectangle 5"/>
              <p:cNvSpPr/>
              <p:nvPr/>
            </p:nvSpPr>
            <p:spPr>
              <a:xfrm rot="16200000">
                <a:off x="4775760" y="2210760"/>
                <a:ext cx="1674720" cy="659880"/>
              </a:xfrm>
              <a:prstGeom prst="roundRect">
                <a:avLst>
                  <a:gd name="adj" fmla="val 16667"/>
                </a:avLst>
              </a:prstGeom>
              <a:solidFill>
                <a:srgbClr val="86ce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87" name="Rounded Rectangle 4"/>
              <p:cNvSpPr/>
              <p:nvPr/>
            </p:nvSpPr>
            <p:spPr>
              <a:xfrm rot="16200000">
                <a:off x="4816440" y="2259360"/>
                <a:ext cx="1608120" cy="59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6ce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560" rIns="106560" tIns="106560" bIns="10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244520"/>
                    <a:tab algn="l" pos="2489040"/>
                    <a:tab algn="l" pos="3733920"/>
                    <a:tab algn="l" pos="4978440"/>
                    <a:tab algn="l" pos="6222960"/>
                    <a:tab algn="l" pos="7467480"/>
                    <a:tab algn="l" pos="8712360"/>
                    <a:tab algn="l" pos="9956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rovided by</a:t>
                </a:r>
                <a:endParaRPr b="0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788" name="Rounded Rectangle 4"/>
            <p:cNvSpPr/>
            <p:nvPr/>
          </p:nvSpPr>
          <p:spPr>
            <a:xfrm>
              <a:off x="6642360" y="2389320"/>
              <a:ext cx="9777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6ce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And/or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89" name="Hexagon 14"/>
          <p:cNvSpPr/>
          <p:nvPr/>
        </p:nvSpPr>
        <p:spPr>
          <a:xfrm>
            <a:off x="1081080" y="5105520"/>
            <a:ext cx="1514520" cy="76176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octors’ visi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90" name="Group 16"/>
          <p:cNvGrpSpPr/>
          <p:nvPr/>
        </p:nvGrpSpPr>
        <p:grpSpPr>
          <a:xfrm>
            <a:off x="90360" y="3642120"/>
            <a:ext cx="1738800" cy="1577160"/>
            <a:chOff x="90360" y="3642120"/>
            <a:chExt cx="1738800" cy="1577160"/>
          </a:xfrm>
        </p:grpSpPr>
        <p:sp>
          <p:nvSpPr>
            <p:cNvPr id="791" name="Rounded Rectangle 20"/>
            <p:cNvSpPr/>
            <p:nvPr/>
          </p:nvSpPr>
          <p:spPr>
            <a:xfrm rot="19298400">
              <a:off x="122400" y="4087440"/>
              <a:ext cx="1674720" cy="685800"/>
            </a:xfrm>
            <a:prstGeom prst="roundRect">
              <a:avLst>
                <a:gd name="adj" fmla="val 16667"/>
              </a:avLst>
            </a:prstGeom>
            <a:solidFill>
              <a:srgbClr val="86ce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2" name="Rounded Rectangle 4"/>
            <p:cNvSpPr/>
            <p:nvPr/>
          </p:nvSpPr>
          <p:spPr>
            <a:xfrm rot="19298400">
              <a:off x="155520" y="4120920"/>
              <a:ext cx="1608120" cy="619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6ce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isks Covered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3" name="Hexagon 22"/>
          <p:cNvSpPr/>
          <p:nvPr/>
        </p:nvSpPr>
        <p:spPr>
          <a:xfrm>
            <a:off x="2476440" y="5456160"/>
            <a:ext cx="1524240" cy="762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7d8f8c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edical procedur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Hexagon 23"/>
          <p:cNvSpPr/>
          <p:nvPr/>
        </p:nvSpPr>
        <p:spPr>
          <a:xfrm>
            <a:off x="3886200" y="4267080"/>
            <a:ext cx="1523880" cy="7621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c0000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ental health treatmen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Hexagon 24"/>
          <p:cNvSpPr/>
          <p:nvPr/>
        </p:nvSpPr>
        <p:spPr>
          <a:xfrm>
            <a:off x="5280120" y="4694400"/>
            <a:ext cx="1633320" cy="76176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eventative ca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Hexagon 25"/>
          <p:cNvSpPr/>
          <p:nvPr/>
        </p:nvSpPr>
        <p:spPr>
          <a:xfrm>
            <a:off x="2438280" y="4648320"/>
            <a:ext cx="1600200" cy="76176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spital bill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Hexagon 26"/>
          <p:cNvSpPr/>
          <p:nvPr/>
        </p:nvSpPr>
        <p:spPr>
          <a:xfrm>
            <a:off x="6781680" y="5094360"/>
            <a:ext cx="1600200" cy="76176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c0000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escription drug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Hexagon 27"/>
          <p:cNvSpPr/>
          <p:nvPr/>
        </p:nvSpPr>
        <p:spPr>
          <a:xfrm>
            <a:off x="3886200" y="5075280"/>
            <a:ext cx="1523880" cy="7621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fac810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Vision ca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Hexagon 28"/>
          <p:cNvSpPr/>
          <p:nvPr/>
        </p:nvSpPr>
        <p:spPr>
          <a:xfrm>
            <a:off x="5295960" y="5527800"/>
            <a:ext cx="1617480" cy="76176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ental ca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609480" y="2017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alth insurance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oney to pay for health ca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6134040" y="181440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6148440" y="29034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Rectangle 30"/>
          <p:cNvSpPr/>
          <p:nvPr/>
        </p:nvSpPr>
        <p:spPr>
          <a:xfrm>
            <a:off x="2055960" y="3065400"/>
            <a:ext cx="5533920" cy="1600200"/>
          </a:xfrm>
          <a:prstGeom prst="rect">
            <a:avLst/>
          </a:prstGeom>
          <a:solidFill>
            <a:srgbClr val="c00000"/>
          </a:solidFill>
          <a:ln w="12600">
            <a:solidFill>
              <a:srgbClr val="619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ollars are limited, health insurance is extremely important to protect against high medical bi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Rectangle 35"/>
          <p:cNvSpPr/>
          <p:nvPr/>
        </p:nvSpPr>
        <p:spPr>
          <a:xfrm>
            <a:off x="7543800" y="229392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 A PERSON CANNOT WORK OR LIVE INDEPENDENTL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6" name="Content Placeholder 3" descr=""/>
          <p:cNvPicPr/>
          <p:nvPr/>
        </p:nvPicPr>
        <p:blipFill>
          <a:blip r:embed="rId1"/>
          <a:stretch/>
        </p:blipFill>
        <p:spPr>
          <a:xfrm>
            <a:off x="1292400" y="1438200"/>
            <a:ext cx="7480080" cy="496908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7"/>
          <p:cNvSpPr/>
          <p:nvPr/>
        </p:nvSpPr>
        <p:spPr>
          <a:xfrm>
            <a:off x="466560" y="4073400"/>
            <a:ext cx="1562400" cy="182880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hy is each type of insurance importan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8" name="Picture 2" descr="C:\Documents and Settings\Nicole Chinadle\Local Settings\Temporary Internet Files\Content.IE5\K159RK4O\MC900187587[1].wmf"/>
          <p:cNvPicPr/>
          <p:nvPr/>
        </p:nvPicPr>
        <p:blipFill>
          <a:blip r:embed="rId2"/>
          <a:stretch/>
        </p:blipFill>
        <p:spPr>
          <a:xfrm>
            <a:off x="1673280" y="5554800"/>
            <a:ext cx="689040" cy="84600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5"/>
          <p:cNvSpPr/>
          <p:nvPr/>
        </p:nvSpPr>
        <p:spPr>
          <a:xfrm>
            <a:off x="2743200" y="2838600"/>
            <a:ext cx="220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ayment to replace earning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uring times when workers cannot work due to illness or inju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5540400" y="2666880"/>
            <a:ext cx="223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yment for extended care when a person cannot live independently (but doesn’t need to be hospitaliz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2743200" y="50292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by employers, individuals, and/or govern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5791320" y="53341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by individu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PERTY &amp; LIABILITY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4" name="Content Placeholder 3" descr=""/>
          <p:cNvPicPr/>
          <p:nvPr/>
        </p:nvPicPr>
        <p:blipFill>
          <a:blip r:embed="rId1"/>
          <a:stretch/>
        </p:blipFill>
        <p:spPr>
          <a:xfrm>
            <a:off x="237960" y="1596960"/>
            <a:ext cx="8614080" cy="374328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2"/>
          <p:cNvSpPr/>
          <p:nvPr/>
        </p:nvSpPr>
        <p:spPr>
          <a:xfrm>
            <a:off x="2590920" y="190512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operty insurance -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payment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insured perso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if his/her property is damaged or destroyed by an acci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2590920" y="355428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ability insurance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paymen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o other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if a member of the insured household accidently causes harm to other people or prope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7037280" y="20574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s for los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sured per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967440" y="386064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s for injury or los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TextBox 7"/>
          <p:cNvSpPr/>
          <p:nvPr/>
        </p:nvSpPr>
        <p:spPr>
          <a:xfrm>
            <a:off x="990720" y="5557680"/>
            <a:ext cx="7467480" cy="45972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d by individual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S OF PROPERTY &amp; LIABILITY INSU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1" name="Content Placeholder 3" descr=""/>
          <p:cNvPicPr/>
          <p:nvPr/>
        </p:nvPicPr>
        <p:blipFill>
          <a:blip r:embed="rId1"/>
          <a:stretch/>
        </p:blipFill>
        <p:spPr>
          <a:xfrm>
            <a:off x="-390600" y="1573200"/>
            <a:ext cx="7864560" cy="47545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" descr="C:\Documents and Settings\Nicole Chinadle\Local Settings\Temporary Internet Files\Content.IE5\DBX1X1F6\MC900431627[1].png"/>
          <p:cNvPicPr/>
          <p:nvPr/>
        </p:nvPicPr>
        <p:blipFill>
          <a:blip r:embed="rId2"/>
          <a:stretch/>
        </p:blipFill>
        <p:spPr>
          <a:xfrm>
            <a:off x="4724280" y="3505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4" descr="C:\Documents and Settings\Nicole Chinadle\Local Settings\Temporary Internet Files\Content.IE5\F55026IT\MC900367340[1].wmf"/>
          <p:cNvPicPr/>
          <p:nvPr/>
        </p:nvPicPr>
        <p:blipFill>
          <a:blip r:embed="rId3"/>
          <a:stretch/>
        </p:blipFill>
        <p:spPr>
          <a:xfrm>
            <a:off x="1706400" y="5257800"/>
            <a:ext cx="530280" cy="7095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5" descr="C:\Documents and Settings\Nicole Chinadle\Local Settings\Temporary Internet Files\Content.IE5\FSMAAUOX\MC900383826[1].wmf"/>
          <p:cNvPicPr/>
          <p:nvPr/>
        </p:nvPicPr>
        <p:blipFill>
          <a:blip r:embed="rId4"/>
          <a:stretch/>
        </p:blipFill>
        <p:spPr>
          <a:xfrm>
            <a:off x="1523880" y="1974960"/>
            <a:ext cx="893880" cy="59832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2"/>
          <p:cNvSpPr/>
          <p:nvPr/>
        </p:nvSpPr>
        <p:spPr>
          <a:xfrm>
            <a:off x="2712960" y="1585800"/>
            <a:ext cx="323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tomobile insuranc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ayment for liability and property insurance on a vehic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1219320" y="3197160"/>
            <a:ext cx="32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meowners insuranc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ayment to cover liability losses and damage/loss of home and its content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2781360" y="4840200"/>
            <a:ext cx="3009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nters insura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yment for damage/loss of property in a rental unit in addition to liability los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TextBox 4"/>
          <p:cNvSpPr/>
          <p:nvPr/>
        </p:nvSpPr>
        <p:spPr>
          <a:xfrm>
            <a:off x="6172200" y="2727360"/>
            <a:ext cx="2666880" cy="192276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person drives an automobile, automobi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abil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urance is required by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580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0" name="Content Placeholder 3" descr=""/>
          <p:cNvPicPr/>
          <p:nvPr/>
        </p:nvPicPr>
        <p:blipFill>
          <a:blip r:embed="rId1"/>
          <a:stretch/>
        </p:blipFill>
        <p:spPr>
          <a:xfrm>
            <a:off x="219240" y="914400"/>
            <a:ext cx="5584680" cy="5553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4"/>
          <p:cNvSpPr/>
          <p:nvPr/>
        </p:nvSpPr>
        <p:spPr>
          <a:xfrm>
            <a:off x="5919840" y="1676520"/>
            <a:ext cx="2895480" cy="100872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cover paid and unpaid work formally done by the individu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TextBox 5"/>
          <p:cNvSpPr/>
          <p:nvPr/>
        </p:nvSpPr>
        <p:spPr>
          <a:xfrm>
            <a:off x="5919840" y="3019320"/>
            <a:ext cx="2895480" cy="131364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usehold production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paid work, such as child care or meal prepa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152280" y="1143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insurance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yment to beneficiaries if an insured person d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1981080" y="294156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neficiary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one who receives insurance money if the insured person di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3657600" y="4676760"/>
            <a:ext cx="218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ent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one who relies on someone else for money income and ca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5919840" y="4648320"/>
            <a:ext cx="2895480" cy="128412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hen would it be necessary to purchase life insuranc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7" name="Picture 2" descr="C:\Documents and Settings\Nicole Chinadle\Local Settings\Temporary Internet Files\Content.IE5\K159RK4O\MC900187587[1].wmf"/>
          <p:cNvPicPr/>
          <p:nvPr/>
        </p:nvPicPr>
        <p:blipFill>
          <a:blip r:embed="rId2"/>
          <a:stretch/>
        </p:blipFill>
        <p:spPr>
          <a:xfrm>
            <a:off x="8143920" y="5508720"/>
            <a:ext cx="689040" cy="846000"/>
          </a:xfrm>
          <a:prstGeom prst="rect">
            <a:avLst/>
          </a:prstGeom>
          <a:ln w="0">
            <a:noFill/>
          </a:ln>
        </p:spPr>
      </p:pic>
      <p:sp>
        <p:nvSpPr>
          <p:cNvPr id="838" name="TextBox 12"/>
          <p:cNvSpPr/>
          <p:nvPr/>
        </p:nvSpPr>
        <p:spPr>
          <a:xfrm>
            <a:off x="5919840" y="609480"/>
            <a:ext cx="2895480" cy="70380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by employers and/or individu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 REVIEW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0" name="Content Placeholder 3" descr=""/>
          <p:cNvPicPr/>
          <p:nvPr/>
        </p:nvPicPr>
        <p:blipFill>
          <a:blip r:embed="rId1"/>
          <a:stretch/>
        </p:blipFill>
        <p:spPr>
          <a:xfrm>
            <a:off x="676440" y="1596960"/>
            <a:ext cx="7797600" cy="374328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2"/>
          <p:cNvSpPr/>
          <p:nvPr/>
        </p:nvSpPr>
        <p:spPr>
          <a:xfrm>
            <a:off x="685800" y="2089080"/>
            <a:ext cx="240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surance is an important part of a financial pla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3352680" y="20131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urance is not intended to make an individual better off than before the ev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019920" y="2065320"/>
            <a:ext cx="245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surance may be acquired from multiple sourc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2057400" y="359568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 with insurance, an individual should still have funds to pay the deductible and co-insuran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4778280" y="36655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re are several types of insurance for specific purpo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S IT IMPORTANT TO HAVE INSURAN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914400" y="2057400"/>
            <a:ext cx="2819520" cy="266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s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chance of loss from an event that cannot be entirely controll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5376960" y="762120"/>
            <a:ext cx="2819160" cy="266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mergency saving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t least six months of expenses set aside to cover costs of unexpected eve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Oval 6"/>
          <p:cNvSpPr/>
          <p:nvPr/>
        </p:nvSpPr>
        <p:spPr>
          <a:xfrm>
            <a:off x="5486400" y="3767040"/>
            <a:ext cx="2624040" cy="240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c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uran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ransfers risk from an individual to an insurance organiz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Right Arrow 7"/>
          <p:cNvSpPr/>
          <p:nvPr/>
        </p:nvSpPr>
        <p:spPr>
          <a:xfrm>
            <a:off x="3940200" y="3200400"/>
            <a:ext cx="1752480" cy="838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a2e6"/>
          </a:solidFill>
          <a:ln w="12600">
            <a:solidFill>
              <a:srgbClr val="0076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anaged b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Cross 8"/>
          <p:cNvSpPr/>
          <p:nvPr/>
        </p:nvSpPr>
        <p:spPr>
          <a:xfrm>
            <a:off x="6378480" y="3200400"/>
            <a:ext cx="762120" cy="685800"/>
          </a:xfrm>
          <a:prstGeom prst="plus">
            <a:avLst>
              <a:gd name="adj" fmla="val 25000"/>
            </a:avLst>
          </a:prstGeom>
          <a:solidFill>
            <a:srgbClr val="00a2e6"/>
          </a:solidFill>
          <a:ln w="12600">
            <a:solidFill>
              <a:srgbClr val="0076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81" name="Group 13"/>
          <p:cNvGrpSpPr/>
          <p:nvPr/>
        </p:nvGrpSpPr>
        <p:grpSpPr>
          <a:xfrm>
            <a:off x="365040" y="4876920"/>
            <a:ext cx="4816440" cy="1423800"/>
            <a:chOff x="365040" y="4876920"/>
            <a:chExt cx="4816440" cy="1423800"/>
          </a:xfrm>
        </p:grpSpPr>
        <p:sp>
          <p:nvSpPr>
            <p:cNvPr id="682" name="Rectangle 5"/>
            <p:cNvSpPr/>
            <p:nvPr/>
          </p:nvSpPr>
          <p:spPr>
            <a:xfrm>
              <a:off x="365040" y="4876920"/>
              <a:ext cx="4587840" cy="1042920"/>
            </a:xfrm>
            <a:prstGeom prst="rect">
              <a:avLst/>
            </a:prstGeom>
            <a:solidFill>
              <a:srgbClr val="00a2e6"/>
            </a:solidFill>
            <a:ln w="3816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What are examples of unexpected events that may result in a financial loss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83" name="Picture 2" descr="C:\Documents and Settings\Nicole Chinadle\Local Settings\Temporary Internet Files\Content.IE5\K159RK4O\MC900187587[1].wmf"/>
            <p:cNvPicPr/>
            <p:nvPr/>
          </p:nvPicPr>
          <p:blipFill>
            <a:blip r:embed="rId1"/>
            <a:stretch/>
          </p:blipFill>
          <p:spPr>
            <a:xfrm>
              <a:off x="4493160" y="5455080"/>
              <a:ext cx="688320" cy="84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SURANCE POLIC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5" name="Content Placeholder 3" descr=""/>
          <p:cNvPicPr/>
          <p:nvPr/>
        </p:nvPicPr>
        <p:blipFill>
          <a:blip r:embed="rId1"/>
          <a:stretch/>
        </p:blipFill>
        <p:spPr>
          <a:xfrm>
            <a:off x="682560" y="1060560"/>
            <a:ext cx="8089920" cy="465768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4"/>
          <p:cNvSpPr/>
          <p:nvPr/>
        </p:nvSpPr>
        <p:spPr>
          <a:xfrm>
            <a:off x="457200" y="5486400"/>
            <a:ext cx="6705720" cy="85248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perts say that buying insurance is buying financial security.  Do you think this is true?  Why or why no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7" name="Picture 2" descr="C:\Documents and Settings\Nicole Chinadle\Local Settings\Temporary Internet Files\Content.IE5\K159RK4O\MC900187587[1].wmf"/>
          <p:cNvPicPr/>
          <p:nvPr/>
        </p:nvPicPr>
        <p:blipFill>
          <a:blip r:embed="rId2"/>
          <a:stretch/>
        </p:blipFill>
        <p:spPr>
          <a:xfrm>
            <a:off x="7007400" y="5562720"/>
            <a:ext cx="688680" cy="8460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2"/>
          <p:cNvSpPr/>
          <p:nvPr/>
        </p:nvSpPr>
        <p:spPr>
          <a:xfrm>
            <a:off x="2057400" y="2496960"/>
            <a:ext cx="662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Coverag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The risks covered and amount of money paid for losses under an insurance policy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2057400" y="3463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event happens the insurance company will make a payment to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licyhold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person who owns the policy) to cover all or part of the resulting lo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1796040" y="4781520"/>
            <a:ext cx="520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Premiu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 Money paid to purchase the policy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ILLUSTRATION OF HOW INSURANCE WOR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2" name="Content Placeholder 3" descr=""/>
          <p:cNvPicPr/>
          <p:nvPr/>
        </p:nvPicPr>
        <p:blipFill>
          <a:blip r:embed="rId1"/>
          <a:stretch/>
        </p:blipFill>
        <p:spPr>
          <a:xfrm>
            <a:off x="676440" y="907920"/>
            <a:ext cx="8046720" cy="4810320"/>
          </a:xfrm>
          <a:prstGeom prst="rect">
            <a:avLst/>
          </a:prstGeom>
          <a:ln w="0">
            <a:noFill/>
          </a:ln>
        </p:spPr>
      </p:pic>
      <p:sp>
        <p:nvSpPr>
          <p:cNvPr id="693" name="TextBox 4"/>
          <p:cNvSpPr/>
          <p:nvPr/>
        </p:nvSpPr>
        <p:spPr>
          <a:xfrm>
            <a:off x="1471680" y="5257800"/>
            <a:ext cx="6605640" cy="825480"/>
          </a:xfrm>
          <a:prstGeom prst="rect">
            <a:avLst/>
          </a:prstGeom>
          <a:solidFill>
            <a:srgbClr val="00a2e6"/>
          </a:solidFill>
          <a:ln w="284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 shifts the risk of big loss from the individual to the insuranc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4" name="Picture 2" descr="C:\Users\Lindy\AppData\Local\Microsoft\Windows\Temporary Internet Files\Content.IE5\0S8G0E4Q\MC900389152[1].wmf"/>
          <p:cNvPicPr/>
          <p:nvPr/>
        </p:nvPicPr>
        <p:blipFill>
          <a:blip r:embed="rId2"/>
          <a:stretch/>
        </p:blipFill>
        <p:spPr>
          <a:xfrm>
            <a:off x="5486400" y="2666880"/>
            <a:ext cx="438120" cy="738360"/>
          </a:xfrm>
          <a:prstGeom prst="rect">
            <a:avLst/>
          </a:prstGeom>
          <a:ln w="0">
            <a:noFill/>
          </a:ln>
        </p:spPr>
      </p:pic>
      <p:grpSp>
        <p:nvGrpSpPr>
          <p:cNvPr id="695" name="Group 21"/>
          <p:cNvGrpSpPr/>
          <p:nvPr/>
        </p:nvGrpSpPr>
        <p:grpSpPr>
          <a:xfrm>
            <a:off x="609480" y="2746440"/>
            <a:ext cx="2392560" cy="758880"/>
            <a:chOff x="609480" y="2746440"/>
            <a:chExt cx="2392560" cy="758880"/>
          </a:xfrm>
        </p:grpSpPr>
        <p:pic>
          <p:nvPicPr>
            <p:cNvPr id="696" name="Picture 2" descr="C:\Users\Lindy\AppData\Local\Microsoft\Windows\Temporary Internet Files\Content.IE5\0S8G0E4Q\MC900389152[1].wmf"/>
            <p:cNvPicPr/>
            <p:nvPr/>
          </p:nvPicPr>
          <p:blipFill>
            <a:blip r:embed="rId3"/>
            <a:stretch/>
          </p:blipFill>
          <p:spPr>
            <a:xfrm>
              <a:off x="1107360" y="275976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2" descr="C:\Users\Lindy\AppData\Local\Microsoft\Windows\Temporary Internet Files\Content.IE5\0S8G0E4Q\MC900389152[1].wmf"/>
            <p:cNvPicPr/>
            <p:nvPr/>
          </p:nvPicPr>
          <p:blipFill>
            <a:blip r:embed="rId4"/>
            <a:stretch/>
          </p:blipFill>
          <p:spPr>
            <a:xfrm>
              <a:off x="609480" y="275976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" descr="C:\Users\Lindy\AppData\Local\Microsoft\Windows\Temporary Internet Files\Content.IE5\0S8G0E4Q\MC900389152[1].wmf"/>
            <p:cNvPicPr/>
            <p:nvPr/>
          </p:nvPicPr>
          <p:blipFill>
            <a:blip r:embed="rId5"/>
            <a:stretch/>
          </p:blipFill>
          <p:spPr>
            <a:xfrm>
              <a:off x="2098440" y="275256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" descr="C:\Users\Lindy\AppData\Local\Microsoft\Windows\Temporary Internet Files\Content.IE5\0S8G0E4Q\MC900389152[1].wmf"/>
            <p:cNvPicPr/>
            <p:nvPr/>
          </p:nvPicPr>
          <p:blipFill>
            <a:blip r:embed="rId6"/>
            <a:stretch/>
          </p:blipFill>
          <p:spPr>
            <a:xfrm>
              <a:off x="1605960" y="2766240"/>
              <a:ext cx="43812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2" descr="C:\Users\Lindy\AppData\Local\Microsoft\Windows\Temporary Internet Files\Content.IE5\0S8G0E4Q\MC900389152[1].wmf"/>
            <p:cNvPicPr/>
            <p:nvPr/>
          </p:nvPicPr>
          <p:blipFill>
            <a:blip r:embed="rId7"/>
            <a:stretch/>
          </p:blipFill>
          <p:spPr>
            <a:xfrm>
              <a:off x="2563920" y="2746440"/>
              <a:ext cx="438120" cy="73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1" name="Rectangle 2"/>
          <p:cNvSpPr/>
          <p:nvPr/>
        </p:nvSpPr>
        <p:spPr>
          <a:xfrm>
            <a:off x="3621240" y="1619280"/>
            <a:ext cx="21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 1% chance that any one of them could get sick and require $10,000 in medical ca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6727680" y="189720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, no one knows who will get sic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716040" y="3513240"/>
            <a:ext cx="228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each person pays $100 into a “pool” they will collectively have $10,000 to cover the medical costs of the person who gets sic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3595680" y="3772080"/>
            <a:ext cx="22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, everyone gives up $100, but nobody loses more than $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6297480" y="35323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9 people do not collect anything, but they gain peace of mind and important protection against large lo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ENEFITS OF INSUR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09480" y="1600200"/>
            <a:ext cx="38102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yments received from an insurance policy c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far exce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he premiums pai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financial security and peace of mi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08" name="Group 2"/>
          <p:cNvGrpSpPr/>
          <p:nvPr/>
        </p:nvGrpSpPr>
        <p:grpSpPr>
          <a:xfrm>
            <a:off x="66600" y="4757760"/>
            <a:ext cx="3684600" cy="1701720"/>
            <a:chOff x="66600" y="4757760"/>
            <a:chExt cx="3684600" cy="1701720"/>
          </a:xfrm>
        </p:grpSpPr>
        <p:sp>
          <p:nvSpPr>
            <p:cNvPr id="709" name="Rectangle 28"/>
            <p:cNvSpPr/>
            <p:nvPr/>
          </p:nvSpPr>
          <p:spPr>
            <a:xfrm>
              <a:off x="293400" y="4757760"/>
              <a:ext cx="3457800" cy="1503360"/>
            </a:xfrm>
            <a:prstGeom prst="rect">
              <a:avLst/>
            </a:prstGeom>
            <a:solidFill>
              <a:srgbClr val="00a2e6"/>
            </a:solidFill>
            <a:ln w="3816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Why is the best outcome to have insurance but never collect on it?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10" name="Picture 2" descr="C:\Documents and Settings\Nicole Chinadle\Local Settings\Temporary Internet Files\Content.IE5\K159RK4O\MC900187587[1].wmf"/>
            <p:cNvPicPr/>
            <p:nvPr/>
          </p:nvPicPr>
          <p:blipFill>
            <a:blip r:embed="rId1"/>
            <a:stretch/>
          </p:blipFill>
          <p:spPr>
            <a:xfrm>
              <a:off x="66600" y="5628960"/>
              <a:ext cx="720000" cy="8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Diagram 3" descr=""/>
          <p:cNvPicPr/>
          <p:nvPr/>
        </p:nvPicPr>
        <p:blipFill>
          <a:blip r:embed="rId2"/>
          <a:stretch/>
        </p:blipFill>
        <p:spPr>
          <a:xfrm>
            <a:off x="3780000" y="1054080"/>
            <a:ext cx="5675040" cy="42195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5"/>
          <p:cNvSpPr/>
          <p:nvPr/>
        </p:nvSpPr>
        <p:spPr>
          <a:xfrm>
            <a:off x="7107120" y="4165560"/>
            <a:ext cx="99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 Ca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3" name="Picture 3" descr="C:\Documents and Settings\Nicole Chinadle\Local Settings\Temporary Internet Files\Content.IE5\DBX1X1F6\MC900001072[1].wmf"/>
          <p:cNvPicPr/>
          <p:nvPr/>
        </p:nvPicPr>
        <p:blipFill>
          <a:blip r:embed="rId3"/>
          <a:stretch/>
        </p:blipFill>
        <p:spPr>
          <a:xfrm>
            <a:off x="7251840" y="4815000"/>
            <a:ext cx="738000" cy="450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" descr="MC900290341[1]"/>
          <p:cNvPicPr/>
          <p:nvPr/>
        </p:nvPicPr>
        <p:blipFill>
          <a:blip r:embed="rId4"/>
          <a:stretch/>
        </p:blipFill>
        <p:spPr>
          <a:xfrm>
            <a:off x="6477120" y="1701720"/>
            <a:ext cx="363240" cy="5158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Description: C:\Users\Lindy\AppData\Local\Microsoft\Windows\Temporary Internet Files\Low\Content.IE5\SOWVKWPX\MC900286866[1].WMF"/>
          <p:cNvPicPr/>
          <p:nvPr/>
        </p:nvPicPr>
        <p:blipFill>
          <a:blip r:embed="rId5"/>
          <a:stretch/>
        </p:blipFill>
        <p:spPr>
          <a:xfrm>
            <a:off x="7997760" y="2819520"/>
            <a:ext cx="460440" cy="4442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Description: C:\Users\Lindy\AppData\Local\Microsoft\Windows\Temporary Internet Files\Low\Content.IE5\KIADFBTW\MC900014630[1].WMF"/>
          <p:cNvPicPr/>
          <p:nvPr/>
        </p:nvPicPr>
        <p:blipFill>
          <a:blip r:embed="rId6"/>
          <a:stretch/>
        </p:blipFill>
        <p:spPr>
          <a:xfrm>
            <a:off x="4748040" y="2625840"/>
            <a:ext cx="581040" cy="6062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Description: C:\Users\Lindy\AppData\Local\Microsoft\Windows\Temporary Internet Files\Low\Content.IE5\KIADFBTW\MC900016001[1].WMF"/>
          <p:cNvPicPr/>
          <p:nvPr/>
        </p:nvPicPr>
        <p:blipFill>
          <a:blip r:embed="rId7"/>
          <a:stretch/>
        </p:blipFill>
        <p:spPr>
          <a:xfrm>
            <a:off x="5551560" y="4680000"/>
            <a:ext cx="392040" cy="49212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21"/>
          <p:cNvSpPr/>
          <p:nvPr/>
        </p:nvSpPr>
        <p:spPr>
          <a:xfrm>
            <a:off x="7621560" y="2370240"/>
            <a:ext cx="12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Rectangle 22"/>
          <p:cNvSpPr/>
          <p:nvPr/>
        </p:nvSpPr>
        <p:spPr>
          <a:xfrm>
            <a:off x="4952880" y="426564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Rectangle 24"/>
          <p:cNvSpPr/>
          <p:nvPr/>
        </p:nvSpPr>
        <p:spPr>
          <a:xfrm>
            <a:off x="4343400" y="226368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f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Rectangle 25"/>
          <p:cNvSpPr/>
          <p:nvPr/>
        </p:nvSpPr>
        <p:spPr>
          <a:xfrm>
            <a:off x="5997600" y="116064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ty &amp; 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INSURANCE PROCES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3" name="Content Placeholder 3" descr=""/>
          <p:cNvPicPr/>
          <p:nvPr/>
        </p:nvPicPr>
        <p:blipFill>
          <a:blip r:embed="rId1"/>
          <a:stretch/>
        </p:blipFill>
        <p:spPr>
          <a:xfrm>
            <a:off x="219240" y="987480"/>
            <a:ext cx="5127480" cy="51940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4"/>
          <p:cNvSpPr/>
          <p:nvPr/>
        </p:nvSpPr>
        <p:spPr>
          <a:xfrm>
            <a:off x="5410080" y="1447920"/>
            <a:ext cx="3505320" cy="91692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i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paperwork submitted to insurance organization describing the accident, illness or inju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5410080" y="2590920"/>
            <a:ext cx="3505320" cy="119124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duct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amount of money paid out of pocket by policyhol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insurance coverage begi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5410080" y="3962520"/>
            <a:ext cx="3505320" cy="1191240"/>
          </a:xfrm>
          <a:prstGeom prst="rect">
            <a:avLst/>
          </a:prstGeom>
          <a:solidFill>
            <a:srgbClr val="86ce24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-insur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amount of money, after deductible, tha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aid joint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y the insured and the insuranc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7" name="Picture 2" descr="C:\Documents and Settings\Nicole Chinadle\My Documents\My Pictures\Microsoft Clip Organizer\00383566.wmf"/>
          <p:cNvPicPr/>
          <p:nvPr/>
        </p:nvPicPr>
        <p:blipFill>
          <a:blip r:embed="rId2"/>
          <a:stretch/>
        </p:blipFill>
        <p:spPr>
          <a:xfrm>
            <a:off x="3429000" y="1676520"/>
            <a:ext cx="495360" cy="5871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9"/>
          <p:cNvSpPr/>
          <p:nvPr/>
        </p:nvSpPr>
        <p:spPr>
          <a:xfrm>
            <a:off x="1905120" y="163980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 occurs resulting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o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347184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licyholder mak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ai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o insurance organiz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2782800" y="4492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urance organization determines if event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vered by polic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895320" y="4795920"/>
            <a:ext cx="17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f so, policyholder pay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ductib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228600" y="27907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maining amount owed is paid by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-insuranc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(if applicab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LOUISE’S ACCID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4" name="Content Placeholder 3" descr=""/>
          <p:cNvPicPr/>
          <p:nvPr/>
        </p:nvPicPr>
        <p:blipFill>
          <a:blip r:embed="rId1"/>
          <a:stretch/>
        </p:blipFill>
        <p:spPr>
          <a:xfrm>
            <a:off x="298440" y="1590840"/>
            <a:ext cx="7785000" cy="1774800"/>
          </a:xfrm>
          <a:prstGeom prst="rect">
            <a:avLst/>
          </a:prstGeom>
          <a:ln w="0">
            <a:noFill/>
          </a:ln>
        </p:spPr>
      </p:pic>
      <p:pic>
        <p:nvPicPr>
          <p:cNvPr id="735" name="Content Placeholder 3" descr=""/>
          <p:cNvPicPr/>
          <p:nvPr/>
        </p:nvPicPr>
        <p:blipFill>
          <a:blip r:embed="rId2"/>
          <a:stretch/>
        </p:blipFill>
        <p:spPr>
          <a:xfrm>
            <a:off x="298440" y="3571920"/>
            <a:ext cx="7785000" cy="177480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7643880" y="2014560"/>
            <a:ext cx="1423800" cy="2838240"/>
          </a:xfrm>
          <a:prstGeom prst="rect">
            <a:avLst/>
          </a:prstGeom>
          <a:solidFill>
            <a:srgbClr val="00a2e6"/>
          </a:solidFill>
          <a:ln w="284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en with insurance Louise still needs funds to pay the deductible and co-insu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7" name="Group 6"/>
          <p:cNvGrpSpPr/>
          <p:nvPr/>
        </p:nvGrpSpPr>
        <p:grpSpPr>
          <a:xfrm>
            <a:off x="228600" y="4114800"/>
            <a:ext cx="695160" cy="723960"/>
            <a:chOff x="228600" y="4114800"/>
            <a:chExt cx="695160" cy="723960"/>
          </a:xfrm>
        </p:grpSpPr>
        <p:sp>
          <p:nvSpPr>
            <p:cNvPr id="738" name="Right Arrow 7"/>
            <p:cNvSpPr/>
            <p:nvPr/>
          </p:nvSpPr>
          <p:spPr>
            <a:xfrm>
              <a:off x="304560" y="4114800"/>
              <a:ext cx="619200" cy="723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3e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9" name="Right Arrow 4"/>
            <p:cNvSpPr/>
            <p:nvPr/>
          </p:nvSpPr>
          <p:spPr>
            <a:xfrm>
              <a:off x="228600" y="4259160"/>
              <a:ext cx="6192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if…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40" name="Rectangle 11"/>
          <p:cNvSpPr/>
          <p:nvPr/>
        </p:nvSpPr>
        <p:spPr>
          <a:xfrm>
            <a:off x="304920" y="5754600"/>
            <a:ext cx="8237520" cy="493920"/>
          </a:xfrm>
          <a:prstGeom prst="rect">
            <a:avLst/>
          </a:prstGeom>
          <a:solidFill>
            <a:srgbClr val="00a2e6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What would Louise’s options have been if she did not have insuranc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1" name="Picture 2" descr="C:\Documents and Settings\Nicole Chinadle\Local Settings\Temporary Internet Files\Content.IE5\K159RK4O\MC900187587[1].wmf"/>
          <p:cNvPicPr/>
          <p:nvPr/>
        </p:nvPicPr>
        <p:blipFill>
          <a:blip r:embed="rId3"/>
          <a:stretch/>
        </p:blipFill>
        <p:spPr>
          <a:xfrm>
            <a:off x="8305920" y="5530680"/>
            <a:ext cx="688680" cy="84636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2"/>
          <p:cNvSpPr/>
          <p:nvPr/>
        </p:nvSpPr>
        <p:spPr>
          <a:xfrm>
            <a:off x="4648320" y="1550880"/>
            <a:ext cx="27432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ouise pays the first $500 of any covered medical car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lu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20% of the remaining cost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685800" y="3505320"/>
            <a:ext cx="2895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ouise is in an accident resulting in a $5,000 medical procedure that is covered by insuranc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4599000" y="3652920"/>
            <a:ext cx="29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uise pays $500 + 20% of the remaining $4,500 for a total of $1,4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4572000" y="464832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nsurance company pays $3,6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INSURANCE POLICY WOULD YOU CHOOS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TextBox 3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2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et wants to make sure she has the best health insurance policy. She shopped around and received multiple quot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are the pro’s and con’s of each policy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28600" y="3124080"/>
          <a:ext cx="8686800" cy="3048120"/>
        </p:xfrm>
        <a:graphic>
          <a:graphicData uri="http://schemas.openxmlformats.org/drawingml/2006/table">
            <a:tbl>
              <a:tblPr/>
              <a:tblGrid>
                <a:gridCol w="2590920"/>
                <a:gridCol w="304776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rent Poli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Poli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um amount/mon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uctible amou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a"/>
                    </a:solidFill>
                  </a:tcPr>
                </a:tc>
              </a:tr>
              <a:tr h="9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insurance amou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a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0f5"/>
                    </a:solidFill>
                  </a:tcPr>
                </a:tc>
              </a:tr>
            </a:tbl>
          </a:graphicData>
        </a:graphic>
      </p:graphicFrame>
      <p:sp>
        <p:nvSpPr>
          <p:cNvPr id="749" name="Rectangle 7"/>
          <p:cNvSpPr/>
          <p:nvPr/>
        </p:nvSpPr>
        <p:spPr>
          <a:xfrm>
            <a:off x="2824200" y="51814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% owed by policyhold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% owed by insuran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Rectangle 8"/>
          <p:cNvSpPr/>
          <p:nvPr/>
        </p:nvSpPr>
        <p:spPr>
          <a:xfrm>
            <a:off x="5867280" y="5183280"/>
            <a:ext cx="305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% owed by policyhold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% owed by insuran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2824200" y="373392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5867280" y="3733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2824200" y="455760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5892840" y="454356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O INSURANCE POLICIES INCLUDE DEDUCTIBLES AND CO-INSURAN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6" name="Content Placeholder 3" descr=""/>
          <p:cNvPicPr/>
          <p:nvPr/>
        </p:nvPicPr>
        <p:blipFill>
          <a:blip r:embed="rId1"/>
          <a:stretch/>
        </p:blipFill>
        <p:spPr>
          <a:xfrm>
            <a:off x="676440" y="1596960"/>
            <a:ext cx="7797600" cy="37432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4"/>
          <p:cNvSpPr/>
          <p:nvPr/>
        </p:nvSpPr>
        <p:spPr>
          <a:xfrm>
            <a:off x="533520" y="5486400"/>
            <a:ext cx="8076960" cy="703800"/>
          </a:xfrm>
          <a:prstGeom prst="rect">
            <a:avLst/>
          </a:prstGeom>
          <a:solidFill>
            <a:srgbClr val="00a2e6"/>
          </a:solidFill>
          <a:ln w="158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llars paid from an insurance policy are not intended to make a person better off than before the loss happen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22:32:09Z</dcterms:created>
  <dc:creator>UA</dc:creator>
  <dc:description/>
  <dc:language>en-US</dc:language>
  <cp:lastModifiedBy>NHBOE</cp:lastModifiedBy>
  <cp:lastPrinted>2011-05-26T18:41:00Z</cp:lastPrinted>
  <dcterms:modified xsi:type="dcterms:W3CDTF">2012-04-25T14:13:05Z</dcterms:modified>
  <cp:revision>150</cp:revision>
  <dc:subject/>
  <dc:title>PowerPoint Presentation</dc:title>
</cp:coreProperties>
</file>